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F75-7208-4535-8A81-F08C282C8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26B-EAC1-4F61-8B45-DF12B1359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AE5-3955-4C71-A24C-230DE0B09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690-939F-4098-A417-DF2913086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92A-1741-47E2-854E-CA0E863AD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10AD-083A-423C-BCB6-0070CA1D4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49B-8274-4A33-8528-BE282A5AC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7C4B-92D6-4B0E-9096-3A7DE4AE8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6FC-C3FC-4074-9689-B27E23C03B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D24-8EE2-4C8D-B2EC-2F61DE60D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675-1496-411B-8C00-3FCE06D8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966-3F08-4E03-BAE8-BF674CFC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687-BFC5-4625-987C-D022B6D4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C76-A505-44A9-BC60-61AEA683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4D0-6785-47F8-88C5-D196863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761-809B-4613-8282-9D542767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A2A-6A66-47CA-864C-0E89B9FF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5D8-FC6D-445D-8447-A7D9F9A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A3A-EFC9-4C9B-93FB-CECD4CD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20E-23AA-4E58-9AAF-A2A54E5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8F1-3E23-4193-9892-A684DB2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4DE-DCF3-44AC-A96D-2449DA7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60A-94E9-4074-A48F-4DBC4F340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но-музыкальная композиц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ы не стреля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51175208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blokada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75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9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670cae477c5c9d39163c0a31fdac8a1_full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0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5" descr="img_1_12_0_4"/>
          <p:cNvPicPr/>
          <p:nvPr/>
        </p:nvPicPr>
        <p:blipFill>
          <a:blip r:embed="rId2"/>
          <a:stretch/>
        </p:blipFill>
        <p:spPr>
          <a:xfrm>
            <a:off x="380880" y="384120"/>
            <a:ext cx="8305920" cy="609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261035759_40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0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1263410919"/>
          <p:cNvPicPr/>
          <p:nvPr/>
        </p:nvPicPr>
        <p:blipFill>
          <a:blip r:embed="rId1"/>
          <a:stretch/>
        </p:blipFill>
        <p:spPr>
          <a:xfrm>
            <a:off x="914400" y="533520"/>
            <a:ext cx="7408800" cy="556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34275"/>
          <p:cNvPicPr/>
          <p:nvPr/>
        </p:nvPicPr>
        <p:blipFill>
          <a:blip r:embed="rId2"/>
          <a:stretch/>
        </p:blipFill>
        <p:spPr>
          <a:xfrm>
            <a:off x="762120" y="228600"/>
            <a:ext cx="76960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leningr4.mp3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storya"/>
          <p:cNvPicPr/>
          <p:nvPr/>
        </p:nvPicPr>
        <p:blipFill>
          <a:blip r:embed="rId4"/>
          <a:stretch/>
        </p:blipFill>
        <p:spPr>
          <a:xfrm>
            <a:off x="685800" y="2286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blokada_off"/>
          <p:cNvPicPr/>
          <p:nvPr/>
        </p:nvPicPr>
        <p:blipFill>
          <a:blip r:embed="rId1"/>
          <a:stretch/>
        </p:blipFill>
        <p:spPr>
          <a:xfrm>
            <a:off x="1752480" y="457200"/>
            <a:ext cx="561996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609480" y="11430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3,5 миллионо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ениградце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жывых осталос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600 тыся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02"/>
          <p:cNvPicPr/>
          <p:nvPr/>
        </p:nvPicPr>
        <p:blipFill>
          <a:blip r:embed="rId1"/>
          <a:stretch/>
        </p:blipFill>
        <p:spPr>
          <a:xfrm>
            <a:off x="2220840" y="304920"/>
            <a:ext cx="464508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евоенный Ленин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811760"/>
          </a:xfrm>
          <a:prstGeom prst="rect">
            <a:avLst/>
          </a:prstGeom>
          <a:ln w="0">
            <a:noFill/>
          </a:ln>
        </p:spPr>
      </p:pic>
      <p:pic>
        <p:nvPicPr>
          <p:cNvPr id="77" name="ленинград2.mp3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066680" y="0"/>
            <a:ext cx="73915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освящается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етям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блокадного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ениграда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51" name="10.mp3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Тверицкое_кладбище_Ярославль01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ник героям блокадного Ленинграда. «900 дней, 900 ноч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_16019546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65120" y="68256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нет ресу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/wiki/Блокада_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lokada.otrok.ru/poetry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estmymusic.com/267-pesni-blokadnogo-leningrada-o-leningrade-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video.yandex.ru/users/mor-vikt2008/view/13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ovmusic.ru/download.php?fname=lening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09480" y="914400"/>
            <a:ext cx="7925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ы не стреляли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251b8e895"/>
          <p:cNvPicPr/>
          <p:nvPr/>
        </p:nvPicPr>
        <p:blipFill>
          <a:blip r:embed="rId1"/>
          <a:stretch/>
        </p:blipFill>
        <p:spPr>
          <a:xfrm>
            <a:off x="2209680" y="228600"/>
            <a:ext cx="4702320" cy="624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0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4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1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WordArt 8"/>
          <p:cNvSpPr txBox="1"/>
          <p:nvPr/>
        </p:nvSpPr>
        <p:spPr>
          <a:xfrm>
            <a:off x="533520" y="57150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ужество!  Воля! Сила духа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8761425_blokada1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ic8"/>
          <p:cNvPicPr/>
          <p:nvPr/>
        </p:nvPicPr>
        <p:blipFill>
          <a:blip r:embed="rId1"/>
          <a:stretch/>
        </p:blipFill>
        <p:spPr>
          <a:xfrm>
            <a:off x="2349360" y="228600"/>
            <a:ext cx="444528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8492267_0_3884_bd97a39c_XL"/>
          <p:cNvPicPr/>
          <p:nvPr/>
        </p:nvPicPr>
        <p:blipFill>
          <a:blip r:embed="rId1"/>
          <a:stretch/>
        </p:blipFill>
        <p:spPr>
          <a:xfrm>
            <a:off x="1447920" y="430200"/>
            <a:ext cx="6248160" cy="599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1-20T09:46:0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